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D5AC1-73FC-49B9-945C-4CF91F4BC3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84172-A9C2-4B3F-B6DA-A3415801EB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werPoint has a worksheet to go with 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1A9FD-ECB6-4E70-8EDD-0312A79B43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CC74B-25FB-4343-A148-0C8EC655D0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copy of this selection to have students highlight the Brushstrokes in play from the passage. Discuss other writing techniques such as prepositional phrases; simple, blunt sentences; reflective words (dark as darkness; quite quietly- also alliterative), tone and mood words, and etc. What about the passage adds to the sinking feeling? Discuss the figurative language. Discuss diction: long, deep, lake (as opposed to pond), dangling, limp, lurking, down, dark, roots…. What about dictional paradoxes? – “…he grabbed with this long fingers as quick as thinking.” Ask students why they think the author has a few unorthodox and seemingly caveman-type syntactical structures. “Not he,” and “Goblin he thought good….” What effect do they have on the reader? Talk about how simple, strongly accented consonant, one-syllable adjectives add to the dripping cavern effe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F996C-7F7F-4F5E-AB31-A35EB2DD22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0D616-C8E3-460E-AA94-CBA9C46A4F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F244C-0719-47DA-9B4B-D46FD4795F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A7F63-9847-4F12-8026-F13927F067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2DA5-A5AB-4CD6-A040-51EE1DE1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99E4-8E8C-4825-81BA-D42AEFC5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6C48-6BD3-49BA-ADDF-D50EA8C8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F003-BF97-4930-9929-94507365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D7F-080C-4A1C-A91D-4DCE3072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92C3-E9C4-4010-94B1-73789AFD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9F01-FF4E-444E-883F-5456FF1C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9D96-323D-463B-B09C-8B5236E3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8F1B-2056-49A0-97D0-8D0C68FC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2D2-C465-4C72-AE04-B2808B39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9654-C7B6-4A5F-B450-E76FEFFD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95C5-2D06-4119-B4E3-427C46A5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0E8A4-0622-47A0-998C-72B936CA09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2879640" y="0"/>
            <a:ext cx="4500720" cy="378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879640" y="5724360"/>
            <a:ext cx="4859280" cy="1835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944720" y="3995640"/>
            <a:ext cx="7380360" cy="172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 Outco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To infer and deduce (read between the lines) the content of a story and to produce an 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To understand the choices writers make about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2519280" y="395280"/>
            <a:ext cx="6875640" cy="4464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djective is a word that describes a 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 had a little b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 grabbed with his long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djective can come before the 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 was a small slimy cre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djective can also be after the 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lake was w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 of your Brushstrokes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write one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bove sentences using a Brushstro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gollum"/>
          <p:cNvPicPr/>
          <p:nvPr/>
        </p:nvPicPr>
        <p:blipFill>
          <a:blip r:embed="rId1"/>
          <a:stretch/>
        </p:blipFill>
        <p:spPr>
          <a:xfrm>
            <a:off x="863640" y="971640"/>
            <a:ext cx="2857320" cy="4048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3960720" y="1422360"/>
            <a:ext cx="583272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3 minutes to look at the pi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and list adjectives to describ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 being shown. Also, list actions that he d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, write a few sentences describing what the character of Gollum is like. I expect to see at least 3 Brushstrokes in p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160200" y="455760"/>
            <a:ext cx="9723600" cy="6619680"/>
          </a:xfrm>
          <a:prstGeom prst="rect">
            <a:avLst/>
          </a:prstGeom>
          <a:solidFill>
            <a:srgbClr val="ffff99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ep down here by the dark water lived old Gollum, a small slim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ature.  I don't know where he came from, nor who or what he w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 was Gollum - as dark as darkness, except for two big round pa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yes in his thin face.  He had a little boat, and he rowed about qui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ietly on the lake; for lake it was, wide and deep and deadly cold. 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ddled it with large feet dangling over the side, but never a ripple d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 make. Not he. He was looking out of his pale limp-like eyes for bl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sh, which he grabbed with his long fingers as quick as thinking. 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ked meat too. Goblin he thought good, when he could get it; but 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ok care they never found him out. He just throttled them from behind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they ever came down alone anywhere near the edge of the water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le he was prowling about. They very seldom did, for they had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eeling that something unpleasant was lurking down there, down at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oots of the mount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020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0" y="4498920"/>
            <a:ext cx="10136160" cy="30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8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ecide whether the following statements about Gollum are tr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or false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rite down the statements which you think are truthfu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) Gollum lives under wa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b) Gollum rows his boat on the lak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) Gollum has large fe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) Gollum has big dark ey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) Gollum doesn't like mea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f)  Gollum’s character is sca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119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0" y="4427640"/>
            <a:ext cx="10080720" cy="31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Find the words or phrases from the text which show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) Gollum is mysteri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) the lake is la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) Gollum is careful when kill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What do each of these phrases mean?- and, analyze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writing technique of ea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) as dark as dark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) as quick as thin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) Goblin he thought go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ffff99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the adjectives which describe the following noun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               1.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s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"/>
          <p:cNvSpPr/>
          <p:nvPr/>
        </p:nvSpPr>
        <p:spPr>
          <a:xfrm>
            <a:off x="0" y="2484360"/>
            <a:ext cx="10080720" cy="5616720"/>
          </a:xfrm>
          <a:prstGeom prst="rect">
            <a:avLst/>
          </a:prstGeom>
          <a:solidFill>
            <a:srgbClr val="ffff99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jectives are sometimes used to give a certain feeling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mosphere to a passage.  Look at the adjectives you have j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ten dow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What impression of Gollum do the adjectives give you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is is an OFFICAL OER!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in complete senten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sure 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swer the question directly and affirmativel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k it up with textual support (use direct quotes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ment or make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nection past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lack and wh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H” stuff;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nect to s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eper (make a statement abou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manity, literary elements, or somet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 that)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nt: take the adjectives discussed and furt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nect his character to mood and throw in terminology lik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dic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n’t you dare start with any of the follow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s, beca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, beca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th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liev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fee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role Hyde</cp:lastModifiedBy>
  <dcterms:modified xsi:type="dcterms:W3CDTF">2014-06-09T16:58:08Z</dcterms:modified>
  <cp:revision>13</cp:revision>
  <dc:subject/>
  <dc:title>Slide 1</dc:title>
</cp:coreProperties>
</file>